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0D0D-90E1-4CCA-810B-1E3F4C44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0B6-484E-407A-B052-550C371A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D1E0-ED28-432B-878D-3A94D6F8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E32-C7F8-42FC-9906-F1A84D8E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AD7-C14D-4326-9244-3BB8E8D1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F65-4BFD-4F45-B147-0469BB2E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2C8C-58B0-4AFA-B3DA-AB6031BA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79F5-A98A-4CA2-A2E9-A26C7411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FB84-BBBD-406C-84E8-0220249C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558A-551E-4662-9A24-8297A356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979-8B18-4A8D-9766-9EDE2F87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722-88F5-418F-A642-F9E85FE8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A1CB-328D-4890-9868-92A5B96A6A4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d7d7ff"/>
                </a:solidFill>
                <a:latin typeface="Times New Roman"/>
                <a:cs typeface="ALAWI-3-4"/>
              </a:rPr>
              <a:t>النصيحة بجمل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3645000"/>
            <a:ext cx="417672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cc"/>
                </a:solidFill>
                <a:latin typeface="Times New Roman"/>
                <a:cs typeface="FS_Free"/>
              </a:rPr>
              <a:t>الجزء الأو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201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لابد من شيء من المخاطرة المحسوبة، من أجل النجا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761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000" spc="-1" strike="noStrike">
                <a:solidFill>
                  <a:srgbClr val="666699"/>
                </a:solidFill>
                <a:latin typeface="Times New Roman"/>
                <a:cs typeface="Andalus"/>
              </a:rPr>
              <a:t>النصيحة بجمل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جزء الثان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faff"/>
            </a:gs>
            <a:gs pos="100000">
              <a:srgbClr val="6e73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836640"/>
            <a:ext cx="648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استرخِ، حتى في أحلك الظرو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537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e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0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d9a1"/>
                </a:solidFill>
                <a:latin typeface="Times New Roman"/>
                <a:cs typeface="FS_Free"/>
              </a:rPr>
              <a:t>احرص على العمل بروح الفري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2578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920" y="620640"/>
            <a:ext cx="7129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نكتة عابرة تشيع البهجة لدى الجمي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5832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5e00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481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FS_Free"/>
              </a:rPr>
              <a:t>عبر عن نفسك بطرائق مبتكر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40072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ffff"/>
            </a:gs>
            <a:gs pos="100000">
              <a:srgbClr val="68757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19280" y="47592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6699"/>
                </a:solidFill>
                <a:latin typeface="Times New Roman"/>
                <a:cs typeface="FS_Free"/>
              </a:rPr>
              <a:t>كن يقظًا </a:t>
            </a:r>
            <a:r>
              <a:rPr b="1" lang="ar-SA" sz="3200" spc="-1" strike="noStrike">
                <a:solidFill>
                  <a:srgbClr val="336699"/>
                </a:solidFill>
                <a:latin typeface="Times New Roman"/>
                <a:cs typeface="FS_Free"/>
              </a:rPr>
              <a:t>دائمًا</a:t>
            </a:r>
            <a:r>
              <a:rPr b="1" lang="ar-SA" sz="2800" spc="-1" strike="noStrike">
                <a:solidFill>
                  <a:srgbClr val="336699"/>
                </a:solidFill>
                <a:latin typeface="Times New Roman"/>
                <a:ea typeface="FS_Free"/>
              </a:rPr>
              <a:t> لمواجهة المفاجآ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5112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58327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9900"/>
                </a:solidFill>
                <a:latin typeface="Times New Roman"/>
                <a:cs typeface="FS_Free"/>
              </a:rPr>
              <a:t>أشْرِك الآخرين في المغنم أيضً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4738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2f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الأمور الطيبة تحدث للطيب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5192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FS_Free"/>
              </a:rPr>
              <a:t>ليكن لك من اسمك نصي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916360" y="1989000"/>
            <a:ext cx="3240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e89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FS_Free"/>
              </a:rPr>
              <a:t>                              </a:t>
            </a:r>
            <a:r>
              <a:rPr b="1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الصديق وقت الضي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3611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00"/>
            </a:gs>
            <a:gs pos="100000">
              <a:srgbClr val="5e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تمسك بأصدقائك الأوفياء، فهم قليلون هذه الأيا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3290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7575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0066"/>
                </a:solidFill>
                <a:latin typeface="Times New Roman"/>
                <a:cs typeface="ALAWI-3-4"/>
              </a:rPr>
              <a:t>تشكرات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bee9f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99"/>
                </a:solidFill>
                <a:latin typeface="Times New Roman"/>
                <a:cs typeface="FS_Free"/>
              </a:rPr>
              <a:t>ثِق في قدرات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19280" y="1201680"/>
            <a:ext cx="60483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8500"/>
            </a:gs>
            <a:gs pos="100000">
              <a:srgbClr val="6666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41040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imes New Roman"/>
                <a:cs typeface="FS_Free"/>
              </a:rPr>
              <a:t>كن شجاعً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35280" y="1393920"/>
            <a:ext cx="56894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e9f2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1052280"/>
            <a:ext cx="640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تكيف مع الظروف مهما كانت صعب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343320" y="1981080"/>
            <a:ext cx="245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33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50920" y="475920"/>
            <a:ext cx="4608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ffaff"/>
                </a:solidFill>
                <a:latin typeface="Times New Roman"/>
                <a:cs typeface="FS_Free"/>
              </a:rPr>
              <a:t>نوِّع في علاقات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545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32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ffaff"/>
                </a:solidFill>
                <a:latin typeface="Times New Roman"/>
                <a:cs typeface="FS_Free"/>
              </a:rPr>
              <a:t>حافظ على هدوئك، حتى في أصعب المواق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3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0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ffff"/>
                </a:solidFill>
                <a:latin typeface="Times New Roman"/>
                <a:cs typeface="FS_Free"/>
              </a:rPr>
              <a:t>لابأس بشيء من الدعابة، ففي الحياة مايكفي من المنغص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90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560" y="476280"/>
            <a:ext cx="597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3ffff"/>
                </a:solidFill>
                <a:latin typeface="Times New Roman"/>
                <a:cs typeface="FS_Free"/>
              </a:rPr>
              <a:t>أحب أصدقاءك كما هم، لاكما تريد أن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5530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</cp:lastModifiedBy>
  <dcterms:modified xsi:type="dcterms:W3CDTF">2006-05-13T08:30:55Z</dcterms:modified>
  <cp:revision>9</cp:revision>
  <dc:subject/>
  <dc:title>PowerPoint Presentation</dc:title>
</cp:coreProperties>
</file>